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4D1-8118-4F70-8A63-9EF35A0C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BE5-2DD0-4A42-A596-05A53B52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91E72-D871-4FF4-8FB3-485162B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3485-680A-4236-AA18-7C93034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0B27F-C24F-49DD-8B1B-B9534FBE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AEF5C-DCF5-430D-9229-8009EAB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77FE8-E306-42AC-8BD5-FA91F03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C7846-E036-42EF-BD45-8A4F8126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DDFE7-5B43-44AB-A015-18C1C4F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91298-C6E0-481E-8848-E98D4D3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EE053-90B4-485F-A887-3E179A5D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FB3C6-3D54-4DAC-B405-5DCAA024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D2E-7092-41D4-A8F6-9CDFC3CD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F61DD-96E9-479B-9CCD-E2C5CEC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923A4-6628-4898-B41B-357DB49F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02D07-FA35-40AD-ABD3-6501653B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03CA2-98C3-44AD-8911-00151C68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E0439-0907-46C8-A598-F29F0B6E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6ECE3-9E9A-47B7-B917-55D8D1A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FBFFA-D196-4EDB-8515-F655CEB0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0A37C-6F37-4E0D-B422-DBBF41D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E3B00-81A2-45F8-BA7C-789821C5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224B8-05A2-490B-832F-D69788E4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3E0-8D69-44D5-B74B-EF08A8CB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64E0B-7471-43B1-9231-768BAF63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FBD0C-68E2-4BE5-8BE5-D1D1E414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41933-9CC3-4CCA-BC10-57C08AE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9D915-1934-4D60-BB79-9FD8962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81F14-E46A-4EFA-B8A9-89750F4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B779-EDE7-4E39-98D9-E4D84F5B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85BDF-1D9F-40AA-9EDD-A5FDCC58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15F43-6A88-41E6-91D9-E056693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44D26-A107-464C-923A-3BEE14D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8EB69-695D-4697-9B22-32F7337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D077-2D0C-4D10-8831-4D111F44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4CB69-3A52-472E-9A85-7ED5645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6D6F7-D25E-43FF-9752-23F21B30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60882-9148-4B21-A514-19F7C4B7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D815F-ABE6-4EFC-B556-4C2D9D08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BC9E9-A9C5-4309-BF1C-2F02105C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3B1D3-72D4-4E51-9627-941F6D4C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FC9ED-185B-485C-ABAB-042CA054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5D391-E935-43EE-AA11-4718D3B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BC23B-A36E-4FA6-A428-BAA138A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AAFB2-AADB-48CB-8D27-A7E545D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BCBE-EF65-45EC-991F-91ABE05E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A2CBE-DA1B-422A-988F-A76774F1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2340C-A3DF-4831-B1CD-F4F2882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216C3-0C6B-4A95-B8A9-4688A55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7C505-3224-49E6-B573-7B249B03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55AAA-6286-4402-9D7E-052AE83B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CE9E5-4CBE-4529-B4E9-6712998E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8792B-90E6-4A2A-8F57-EB07604C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A2B07-EF48-4155-91FB-0A70C338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88506-E5BE-486A-BB61-4A3E0F9A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5B95F-613C-442A-9E5E-2648DBBB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851E-578D-41AF-B0AC-9D09991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42678-7056-4346-9F02-161BDB8C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2EAC6-FF58-4ECE-81CE-7DAA285E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9F053-5332-41F6-9A96-10FB3B1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719FB-7373-406A-A67F-940385AA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31E48-778D-437C-8562-EEF5346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92322-3B7D-4D70-9A92-B00DDB0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D2AA8-1107-480D-809B-EC4440D6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8FC9A-FD44-4BB9-BE63-7ED3D2F7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F1959-1152-4236-82BC-4FEEF90A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3EF1E-1AD5-43EA-9517-16F16CB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E697-85EB-4E23-BA97-7BB1FA8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8781B-1E7C-4A9E-8594-0C766BE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969D7-C90F-47D8-82FD-87179F2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F85B8-A6E0-4A1F-A97D-A49D0CFE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39AFA-4CF8-4563-A130-4653C8D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E5F39-4241-40A2-806E-74A9D5E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AED78-238B-48BB-830B-A8D39A8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0AE51-C5D1-415F-BD55-429EDAE6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53F63-D9DC-49DC-857E-701153F7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304A5-33B3-481E-93AB-180A249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851C1-5F0A-49F8-B88F-D20E54B1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D23B-5AA5-4921-AFD6-D1EA16DC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D8CE4-59D2-44AE-9BCB-F12BD3F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2A3D8-C427-49A8-8651-A169774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F9FC1-CF53-4DAD-B335-B589DB2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47ECA-3466-4C13-AED4-30EC65EC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892EB-9413-4C24-BD5F-48729CA1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5FB3B-350D-4FEC-9C9C-4B96E45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BDD55-E9C5-45C6-8171-B2D6631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E0C64-05F8-4D87-83D6-89F50CB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87EF7-7E5D-437F-9A21-CD311B0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620FB-7035-4EC1-BDCA-E2C68520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8EB1-E93B-4C0A-9035-02C5B6B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D746B-E8DC-49DB-8792-BF26609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B8E5B-9CDE-49B1-9D06-F9C60646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BE016-6B22-40E8-8FC4-6BBE15C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FCF8A-EE2F-4A01-BD58-475E540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45740-6FB3-4684-9BB2-494A6232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D6CC1-1AC2-44C3-9C99-7CE77D1A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4E7B5-168E-415E-8D31-2EA9AED7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B98F1-4874-4D7B-951F-3A270DCA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1AF7B-D7EC-4F5B-9EBB-8308C10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9CCC8-0BB4-48B8-8E07-E6DF973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84A-62A2-456A-845D-74138B7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5CBB1-C68B-43CA-ADA0-44BB4FB7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B0999-9C84-4EDA-894C-449D0621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98E2C-8BA6-456C-B1DB-CCD7396C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78337-7A42-43F6-B127-71B0ED17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49BD5-5020-4361-A9EC-CC09E503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3C202-34C1-4B41-969D-B1660355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D96C5-6E90-492E-9D2C-3DD333A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E6731-0DE7-4A44-8A8B-93FF500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BB4BB-313D-4A19-8AC1-58A8A22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B6128-6C81-4D43-924D-4D2B55A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7BF-3B72-4387-A959-DEC8991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B03-DF67-45A9-AF19-2B7A6474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3321D-E968-4E97-96C8-44A596B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BEFD3-E96D-4CB6-AB36-D680602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D1D6F-C83A-4EF9-B17A-8012D2B7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F96EB-A220-454A-8925-FDAEF6A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990CB-5088-4AAC-9167-FF4BF801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B5BD3-2716-46A2-A2E5-A9EF652E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B10C66-3643-421E-A4FD-1482D0BE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ADD36-B660-47A1-B5F1-199C993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6E0F6-F9ED-430E-A0FE-47A5BBB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05B47-9F8D-412C-837B-18322A7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A59-E96F-43B3-A542-A7277E5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87AB7-4FE4-4885-8466-1A99C23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DCE17-7BE2-4B38-B96E-3622960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F42B7-E051-4DBB-9F8A-1004230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1DF86-436B-4216-AC46-2DFB927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E1C83-0CEE-4839-AFCB-E4D8C25D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CD7BA-284A-48C3-B9AD-EDACF72C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29D0B-60FC-4D4D-9FE1-5BDC71C2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7EBCE-9351-4E91-A91D-115C46F8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1A351-3B7F-4C25-A564-942E2CA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B913B-7A3D-44A1-932D-5B7E658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FCD1-82F5-4727-AD02-496624E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A52D2-C036-454C-8439-71232FA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494DE-C1BB-4C6C-AC45-F261CFF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E3D30-078A-4E3E-AC2F-0211952A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0B475-D78B-4109-B9D7-338AAE9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66BFD-CC9D-4B82-97A7-96035786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AC252-10EF-467F-BBA0-E8A81C0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196577-1F13-4A53-B0E4-75BB826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6716A-D94A-4DF6-8222-5B8C6C65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4B6F7-E682-42B2-B685-DB47253E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59F76-07EC-4700-8F8D-FFD63BD3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1263-5825-4DE8-886C-E5EF0041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8337F-1DBC-4707-A31F-92559F6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0D7B9-9EAF-4966-9427-A084D973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5E43B-8257-4DC3-8BC3-4589A11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B1A56-12C5-40AC-8C39-F8978D2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00A2B-94B7-4637-9F9A-35BFA1E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0EFAA-7DC4-4659-BFF4-D30F684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7AED8-2EEF-4726-8BE0-6DBDADE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42A3D-08A8-4C5F-960D-38D4D8E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FCE48-9ED4-42EE-88A2-7F62BBC8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B8D89-87E8-4445-911A-B41D9646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C75-AE82-4458-95BE-16B1643E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ADE5C-26AB-4A59-9D14-2F8BC830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1AA2C-AF79-4AD0-ACD8-DA8DC425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2610B-71A1-4A86-A64F-661E1532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C5BD2-40C6-475A-8773-977511B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2E141-030D-462C-955E-0CCEB88B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1C017-2EC6-450A-94EB-4096B0BB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665CA-F3E3-4700-95D9-F2887453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27E36-5699-4420-90C8-7243B0E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7D679-D06E-455F-BA6B-724A7FE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74344-781C-48C3-9CA7-78C249C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8E2F-40A7-4CF5-85B1-7641A0FF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EDF0A-3FC7-4096-9F95-999C5338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20559-6972-47B2-A6CE-B7EB3ECC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AA83D-0814-4150-AC75-CBEC0FF9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5A63-3CF3-4FEB-BD2D-96FFE47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2E31-F71D-4C8F-810D-018D9CD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C49B-630E-4BE3-891A-243927B5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69CF-C4AD-438C-8D9F-692C1AA0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EF1-6214-491D-A5EC-499FD22C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B596-9DF5-4E9D-A96F-CBE3B17D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B041-5AFE-44D7-89DE-04EAAF5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6CD7-F2E2-4EFC-A832-557A37CD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43C6-DE0A-4044-9CB6-E489BCE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2233-B8AD-43E0-AA0F-A4F5AA98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BB80-C6E2-42AD-977B-76EE5940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DD7F0-3F38-43F3-BFC6-AC329695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93F2-2600-4CC0-AD67-4EDCDD00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97A5-7BD3-4F88-AC6B-45CCDE7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E7AD-FB80-42E8-AD42-E544015D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D61-8A66-493C-82FA-71241E32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A1CD-144A-4120-A1AB-07EB0AD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7E40-E254-4F59-9F1E-286D02A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546F-6CC2-4597-85D8-3DF8879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5D69-2D4A-4132-B7DC-BCF2EB0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6358-A267-4FC6-A7CA-2FD919A4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15B1-1233-4AF9-BC04-5709585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2C5D-31E1-4896-9EA9-27E80014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7BC2-A6AF-447B-B582-B713576B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03BC-22F6-475B-9206-65660B9B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CEA5-8CC6-4605-B622-42EFF95E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958-F6BC-49D6-813A-7B6A9E45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1C01-381F-43C1-A7DD-9A043AB3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305A-149F-4237-BCCF-0F71641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47C0D-FA0F-4DA2-BDB0-2AFB2F9A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B0DA0-42B5-4BD9-B636-72B85F95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87B3-3ED3-42DC-85D9-D36B843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E7C4-BC51-43C5-B804-7CF1F01D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7003-AB2B-432D-97A7-6B7F4BB2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0725-26E1-4CE8-9067-8F24C7B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C335-A3BE-4952-A081-0F1BFAB5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310A-D731-4429-B38A-98463D84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B1E-B523-4894-B99D-58355185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C5EF-AFEC-4C97-BE0D-8236FB53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E63B-E608-4869-AB84-1EB7C6F6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43E0-144F-4C14-8AD2-54073FE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40B5-D609-4464-AEE9-C4772E5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03B4-DF46-4D84-821F-36A09638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BBB90-D558-41A4-AD41-01A37E3F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6505C-6A82-4A4B-93C2-75334E25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00FD-8504-4306-9455-B366BC2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3100-D1D0-4BD5-8D9E-989F011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66EEA-7E72-4465-A36C-55AD2F1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0E9-076A-431D-94B0-46316FCF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7296-942F-401E-8E59-C8DD8B3A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22734-F4DE-44A0-A010-04D89B7F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2A5B-F993-4A52-B2E9-52592736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6EE2-7F96-49CF-9BEC-2AE5E310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BFE13-6FD7-408F-8166-5ADDB3CD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FF71-9A38-4ED5-82A6-D4759B64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7EEB-CCCC-4897-8480-AA61CC6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A47A-1837-44F1-864F-D48A6EB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DED9-8FA9-435F-9BE0-BF6B5A4E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3F89-8426-4E35-8A36-4E4C001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5C8-BC67-42DF-984D-19ACF43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27069-E265-426D-B17B-8643B90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D88A-DCA9-4255-BB17-8F3DA7F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60D40-3211-4C53-BAF9-8EB6BCF3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A8BEF-F308-4A8C-A249-6623F36B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D1F7-A121-4314-A5CE-E7801A34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B53E-7E0D-493C-B447-0D5CFAB7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79679-F860-45C4-8B9D-7097965D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0B554-2348-4F57-882C-3586B822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7F3A-396F-4CFF-BC9D-2B73531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3DA50-793B-441F-9454-96B82C3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872-B396-4339-A85C-2DDE282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CA11E-4288-48D1-9825-C013C06D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6E3E7-7F0A-45AB-821B-DC55472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4EAA-324D-4480-A33B-B7EB176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C9A60-6DE1-41F0-B7F3-FBA8416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039E-DFB6-4655-8682-4A8AD83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EE0D-4504-43DC-9287-01155075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AED51-0E14-434C-9D53-3C5941D8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224DC-9428-404F-B554-B93E4CFC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3A93A-A3DD-4A6E-887C-C1BF5A6E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20DF0-9553-49D7-8455-EFCD7DF6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FDD2-4B28-47CD-B1BB-85F898DFD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AFC9-ACB3-43B1-A0F6-1589D96FE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0FD-6019-4D09-AE52-8E4E98A7C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9B7-7E76-43AD-BEFE-C732613F2E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CA2-674E-4A42-A403-5739F5970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09D9-2CFA-40A7-B0AD-44CB5F378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227-7959-492A-AB46-95ADC0E18A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7FA3-E347-41DC-A5D0-9BB974F29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4F0F-D4C9-40B9-B8A2-9D40E825E1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D29-1643-454D-A618-D8002F3A1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FC3-D494-42DD-8D4A-AA44799AF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20B-F575-47DB-9239-A5DAE5E88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4EC-0452-4263-9B5F-35A3F1A16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1544-79CC-420A-AAFC-8611E2776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1EB-21A1-462B-955C-8B95D2500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F4A9-CAE7-4FBB-8D3F-30F015412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6AC9-D0C8-4FED-91F5-0B1EE923F6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B627-A2E3-4905-ABF4-D7CDAB7C2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B635-7E54-4F40-8958-B858B579A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18B9-8DAF-4E82-A999-D7B54A855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5D0-83D4-45FF-A7BD-1AD979D8B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58C4-3B9E-4CCC-BDA9-B4E2A4B0A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AAF-E2F2-416B-981F-27A2E7EDD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C87F-E049-4D36-BB74-4079336EF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57C9-3D3B-4161-917F-2CD39B365F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07C6-8BD8-4DED-A896-D69895BA8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75A-14F7-4EBE-B5E9-12CD17A08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20F7-5B82-461F-B120-80A9F6874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D82-69E5-4B61-800F-F15B42913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3A4-00A7-4E85-9D36-BC05258DA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E761-9684-413E-9C29-2FBEA612E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127C-A149-416D-90CB-C7D36FC6F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7C97-A4F6-44EB-AE61-CA524335F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57B-91B9-445D-8014-7276D0076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626-96A7-40AB-A8F2-4611810FE5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B1F4-216C-496C-9B62-89E14CC75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0F2D-81D9-4121-9318-F2EBC57AD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60C9-DB36-4040-89B4-AB655E025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AE1-841F-4385-86D5-8C565FDC5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DA9-DE70-4559-AA14-737D4C0B4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995480" y="2590920"/>
            <a:ext cx="5153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47680" y="709560"/>
            <a:ext cx="8648640" cy="5438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7754760" y="1398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4413240" y="2168640"/>
            <a:ext cx="446040" cy="396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771640" y="3184560"/>
            <a:ext cx="863640" cy="396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2556000" y="3701880"/>
            <a:ext cx="863640" cy="397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2556000" y="4192560"/>
            <a:ext cx="863640" cy="397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2843280" y="4695840"/>
            <a:ext cx="863640" cy="396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2627280" y="5186520"/>
            <a:ext cx="64764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223920" y="1252440"/>
            <a:ext cx="8696160" cy="4353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02800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8028000" y="3284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8373" descr=""/>
          <p:cNvPicPr/>
          <p:nvPr/>
        </p:nvPicPr>
        <p:blipFill>
          <a:blip r:embed="rId1"/>
          <a:stretch/>
        </p:blipFill>
        <p:spPr>
          <a:xfrm>
            <a:off x="247680" y="1047600"/>
            <a:ext cx="8648640" cy="47628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067280" y="1023840"/>
            <a:ext cx="503280" cy="8924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3203640" y="200484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8028000" y="35002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7352" descr=""/>
          <p:cNvPicPr/>
          <p:nvPr/>
        </p:nvPicPr>
        <p:blipFill>
          <a:blip r:embed="rId1"/>
          <a:stretch/>
        </p:blipFill>
        <p:spPr>
          <a:xfrm>
            <a:off x="504720" y="276120"/>
            <a:ext cx="8134560" cy="6305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755640" y="1282680"/>
            <a:ext cx="4608360" cy="922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755640" y="3270240"/>
            <a:ext cx="6840720" cy="922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826920" y="5113440"/>
            <a:ext cx="5329440" cy="5331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684360" y="5661000"/>
            <a:ext cx="68403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6324" descr=""/>
          <p:cNvPicPr/>
          <p:nvPr/>
        </p:nvPicPr>
        <p:blipFill>
          <a:blip r:embed="rId1"/>
          <a:stretch/>
        </p:blipFill>
        <p:spPr>
          <a:xfrm>
            <a:off x="252360" y="623880"/>
            <a:ext cx="8639280" cy="56102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2190600"/>
            <a:ext cx="29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7956720" y="486900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5300" descr=""/>
          <p:cNvPicPr/>
          <p:nvPr/>
        </p:nvPicPr>
        <p:blipFill>
          <a:blip r:embed="rId1"/>
          <a:stretch/>
        </p:blipFill>
        <p:spPr>
          <a:xfrm>
            <a:off x="295200" y="552600"/>
            <a:ext cx="8553600" cy="57528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3780000" y="144000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116000" y="3443400"/>
            <a:ext cx="3456000" cy="8492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258920" y="5748480"/>
            <a:ext cx="34560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4276" descr=""/>
          <p:cNvPicPr/>
          <p:nvPr/>
        </p:nvPicPr>
        <p:blipFill>
          <a:blip r:embed="rId1"/>
          <a:stretch/>
        </p:blipFill>
        <p:spPr>
          <a:xfrm>
            <a:off x="738360" y="1004760"/>
            <a:ext cx="7667280" cy="4848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332000" y="1974960"/>
            <a:ext cx="6408720" cy="877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476360" y="2881440"/>
            <a:ext cx="6408720" cy="877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332000" y="3803760"/>
            <a:ext cx="6408720" cy="877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692360" y="476892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1692360" y="5243400"/>
            <a:ext cx="374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02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